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0FA2-146E-481F-9F74-75113C78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686736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17880" y="1743840"/>
            <a:ext cx="686736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0060-DECB-4645-99C1-332574BC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11788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3724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E066-A30D-46D2-89B5-A14F761AB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39880" y="130320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61880" y="130320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117880" y="174384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439880" y="174384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761880" y="174384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C09C-7EF3-4AF0-A94A-31FF7B39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35FF8-8A28-4293-82A0-0973E855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17880" y="1303200"/>
            <a:ext cx="68673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406B2-B1D7-43D5-BEE0-747069B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686736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E64C0-34BD-4E02-A0D5-68EF5770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97F2C-48BE-4442-9E95-670FF55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D764-C314-47FE-AF2C-6A267A0E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D5304-E200-437B-93EF-E6F9ED5A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11788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B905B-7E56-4428-8F7F-6E63984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117880" y="1303200"/>
            <a:ext cx="686736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86DF2-3486-4DEF-9117-FC620DB7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3724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83122-B18C-4A7A-8CA7-CB9F73F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117880" y="1743840"/>
            <a:ext cx="686736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73002-8D59-41F8-9431-EB80E16A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686736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117880" y="1743840"/>
            <a:ext cx="686736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A25C5-10B9-491F-8D4E-03158BF4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11788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63724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20AD-5C83-4598-BFBB-5874A11F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39880" y="130320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61880" y="130320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117880" y="174384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439880" y="174384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761880" y="1743840"/>
            <a:ext cx="221112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D0703-5A51-415B-8945-10164AE35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686736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F8E1-C8AC-4816-9858-145825A5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644C-B90B-4E2F-B9C6-ABE8EEA4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4C8E-6C12-4A6A-8B57-64DABE5B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0C1D-D73F-4A82-827D-4471FB9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11788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82A6-C04D-489D-AF3D-9929EC6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37240" y="174384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0D38-5619-4494-955D-C96A58B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1788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7240" y="1303200"/>
            <a:ext cx="335124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17880" y="1743840"/>
            <a:ext cx="6867360" cy="4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F5B8-4D2E-4F68-84A2-DC43BF67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053120" y="5945040"/>
            <a:ext cx="2071800" cy="912960"/>
          </a:xfrm>
          <a:custGeom>
            <a:avLst/>
            <a:gdLst/>
            <a:ahLst/>
            <a:rect l="l" t="t" r="r" b="b"/>
            <a:pathLst>
              <a:path w="1305" h="575">
                <a:moveTo>
                  <a:pt x="464" y="0"/>
                </a:moveTo>
                <a:lnTo>
                  <a:pt x="1304" y="289"/>
                </a:lnTo>
                <a:lnTo>
                  <a:pt x="1257" y="572"/>
                </a:lnTo>
                <a:lnTo>
                  <a:pt x="0" y="574"/>
                </a:lnTo>
                <a:lnTo>
                  <a:pt x="464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075440" y="6097680"/>
            <a:ext cx="2068560" cy="760320"/>
          </a:xfrm>
          <a:custGeom>
            <a:avLst/>
            <a:gdLst/>
            <a:ahLst/>
            <a:rect l="l" t="t" r="r" b="b"/>
            <a:pathLst>
              <a:path w="1303" h="479">
                <a:moveTo>
                  <a:pt x="0" y="478"/>
                </a:moveTo>
                <a:lnTo>
                  <a:pt x="563" y="0"/>
                </a:lnTo>
                <a:lnTo>
                  <a:pt x="1302" y="244"/>
                </a:lnTo>
                <a:lnTo>
                  <a:pt x="1302" y="478"/>
                </a:lnTo>
                <a:lnTo>
                  <a:pt x="0" y="47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8083440" y="6384960"/>
            <a:ext cx="190440" cy="380880"/>
          </a:xfrm>
          <a:prstGeom prst="leftArrow">
            <a:avLst>
              <a:gd name="adj1" fmla="val 75009"/>
              <a:gd name="adj2" fmla="val 100000"/>
            </a:avLst>
          </a:prstGeom>
          <a:solidFill>
            <a:srgbClr val="00ffcc"/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7664400" y="6384960"/>
            <a:ext cx="190440" cy="380880"/>
          </a:xfrm>
          <a:prstGeom prst="leftArrow">
            <a:avLst>
              <a:gd name="adj1" fmla="val 75009"/>
              <a:gd name="adj2" fmla="val 100000"/>
            </a:avLst>
          </a:prstGeom>
          <a:solidFill>
            <a:srgbClr val="00ffcc"/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nextslide"/>
          </p:cNvPr>
          <p:cNvSpPr/>
          <p:nvPr/>
        </p:nvSpPr>
        <p:spPr>
          <a:xfrm>
            <a:off x="8474040" y="6384960"/>
            <a:ext cx="190440" cy="380880"/>
          </a:xfrm>
          <a:prstGeom prst="rightArrow">
            <a:avLst>
              <a:gd name="adj1" fmla="val 75009"/>
              <a:gd name="adj2" fmla="val 25019"/>
            </a:avLst>
          </a:prstGeom>
          <a:solidFill>
            <a:srgbClr val="00ffcc"/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firstslide"/>
          </p:cNvPr>
          <p:cNvSpPr/>
          <p:nvPr/>
        </p:nvSpPr>
        <p:spPr>
          <a:xfrm>
            <a:off x="7740720" y="6384960"/>
            <a:ext cx="190440" cy="380880"/>
          </a:xfrm>
          <a:prstGeom prst="leftArrow">
            <a:avLst>
              <a:gd name="adj1" fmla="val 75009"/>
              <a:gd name="adj2" fmla="val 100000"/>
            </a:avLst>
          </a:prstGeom>
          <a:solidFill>
            <a:srgbClr val="00ffcc"/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2093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ffcc"/>
              </a:buClr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94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330099"/>
              </a:buClr>
              <a:buSzPct val="94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94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94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8808-2A88-43D0-B5C2-F4DF32530C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1981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8FF-A35D-419F-BE36-E08648B89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ftr" idx="3"/>
          </p:nvPr>
        </p:nvSpPr>
        <p:spPr>
          <a:xfrm>
            <a:off x="1981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53120" y="5945040"/>
            <a:ext cx="2071800" cy="912960"/>
          </a:xfrm>
          <a:custGeom>
            <a:avLst/>
            <a:gdLst/>
            <a:ahLst/>
            <a:rect l="l" t="t" r="r" b="b"/>
            <a:pathLst>
              <a:path w="1305" h="575">
                <a:moveTo>
                  <a:pt x="464" y="0"/>
                </a:moveTo>
                <a:lnTo>
                  <a:pt x="1304" y="289"/>
                </a:lnTo>
                <a:lnTo>
                  <a:pt x="1257" y="572"/>
                </a:lnTo>
                <a:lnTo>
                  <a:pt x="0" y="574"/>
                </a:lnTo>
                <a:lnTo>
                  <a:pt x="464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75440" y="6097680"/>
            <a:ext cx="2068560" cy="760320"/>
          </a:xfrm>
          <a:custGeom>
            <a:avLst/>
            <a:gdLst/>
            <a:ahLst/>
            <a:rect l="l" t="t" r="r" b="b"/>
            <a:pathLst>
              <a:path w="1303" h="479">
                <a:moveTo>
                  <a:pt x="0" y="478"/>
                </a:moveTo>
                <a:lnTo>
                  <a:pt x="563" y="0"/>
                </a:lnTo>
                <a:lnTo>
                  <a:pt x="1302" y="244"/>
                </a:lnTo>
                <a:lnTo>
                  <a:pt x="1302" y="478"/>
                </a:lnTo>
                <a:lnTo>
                  <a:pt x="0" y="47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083440" y="6384960"/>
            <a:ext cx="190440" cy="380880"/>
          </a:xfrm>
          <a:prstGeom prst="leftArrow">
            <a:avLst>
              <a:gd name="adj1" fmla="val 75009"/>
              <a:gd name="adj2" fmla="val 100000"/>
            </a:avLst>
          </a:prstGeom>
          <a:solidFill>
            <a:srgbClr val="969696">
              <a:alpha val="50000"/>
            </a:srgbClr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firstslide"/>
          </p:cNvPr>
          <p:cNvSpPr/>
          <p:nvPr/>
        </p:nvSpPr>
        <p:spPr>
          <a:xfrm>
            <a:off x="7664400" y="6384960"/>
            <a:ext cx="190440" cy="380880"/>
          </a:xfrm>
          <a:prstGeom prst="leftArrow">
            <a:avLst>
              <a:gd name="adj1" fmla="val 75009"/>
              <a:gd name="adj2" fmla="val 100000"/>
            </a:avLst>
          </a:prstGeom>
          <a:solidFill>
            <a:srgbClr val="969696">
              <a:alpha val="50000"/>
            </a:srgbClr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74040" y="6384960"/>
            <a:ext cx="190440" cy="380880"/>
          </a:xfrm>
          <a:prstGeom prst="rightArrow">
            <a:avLst>
              <a:gd name="adj1" fmla="val 75009"/>
              <a:gd name="adj2" fmla="val 25019"/>
            </a:avLst>
          </a:prstGeom>
          <a:solidFill>
            <a:srgbClr val="00ffcc"/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7740720" y="6384960"/>
            <a:ext cx="190440" cy="380880"/>
          </a:xfrm>
          <a:prstGeom prst="leftArrow">
            <a:avLst>
              <a:gd name="adj1" fmla="val 75009"/>
              <a:gd name="adj2" fmla="val 100000"/>
            </a:avLst>
          </a:prstGeom>
          <a:solidFill>
            <a:srgbClr val="969696">
              <a:alpha val="50000"/>
            </a:srgbClr>
          </a:solidFill>
          <a:ln w="1260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5257440" y="6400800"/>
            <a:ext cx="115236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127B-1B93-4922-93A8-DEB66B339C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sldNum" idx="5"/>
          </p:nvPr>
        </p:nvSpPr>
        <p:spPr>
          <a:xfrm>
            <a:off x="1981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0322-6467-4AB8-8E61-422FB9F3F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6"/>
          </p:nvPr>
        </p:nvSpPr>
        <p:spPr>
          <a:xfrm>
            <a:off x="19807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00ffcc"/>
              </a:buClr>
              <a:buFont typeface="Wingdings 2" charset="2"/>
              <a:buChar char="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94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330099"/>
              </a:buClr>
              <a:buSzPct val="94000"/>
              <a:buFont typeface="Wingdings 2" charset="2"/>
              <a:buChar char="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94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94000"/>
              <a:buFont typeface="Wingdings 2" charset="2"/>
              <a:buChar char="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vunet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0" b="82096"/>
          <a:stretch/>
        </p:blipFill>
        <p:spPr>
          <a:xfrm>
            <a:off x="380880" y="1447920"/>
            <a:ext cx="8534520" cy="2209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572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743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4267080"/>
            <a:ext cx="754380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VOICE FOR THE VASCULAR ULTRASOUND PROFESSION SINCE 19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IUM November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7664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VU Mis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6775560" cy="47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o represent the best interests of SVU members and promote quality vascular ultrasound services by providing educational, scientific and literary activities to our members, patients and the publ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VU is dedicated to the advancement of noninvasive, diagnostic vascular technology throug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inuing Medical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egislative &amp; Regulatory Advoc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fessional Performance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ews &amp;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peakers Bur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ntor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Professional Performance Guideli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093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VU has 19 Professional Performance Guidelines posted on the SVU web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1"/>
              </a:rPr>
              <a:t>www.svunet.org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DC5F1-3382-44D9-8A09-1FF24E7DBB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76640" y="151920"/>
            <a:ext cx="6867360" cy="1065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VU Major Iss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6781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KFORCE ISSU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ducation/CMEs (online JV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taffing shortages –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ging 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Lack of degree programs (entry lev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rgonomic Inju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eed for more Externship locations for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ontinues to support the passage of the CARE B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ederal and State Advocacy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ctive Advocacy Committee to address regulato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legislative and reimburs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critical to the vascular ultra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Prof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ff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tate Licen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120" y="761760"/>
            <a:ext cx="68677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NING FO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U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76520" y="1303200"/>
            <a:ext cx="7308720" cy="13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VU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ISION 2011-2012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C4F779F-AE31-4B33-B12C-81782F0152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1T18:00:13Z</dcterms:created>
  <dc:creator>Bonnie Johnson</dc:creator>
  <dc:description/>
  <dc:language>en-US</dc:language>
  <cp:lastModifiedBy>Alexa Cowger</cp:lastModifiedBy>
  <cp:lastPrinted>2003-09-17T15:14:34Z</cp:lastPrinted>
  <dcterms:modified xsi:type="dcterms:W3CDTF">2010-10-28T20:36:14Z</dcterms:modified>
  <cp:revision>309</cp:revision>
  <dc:subject/>
  <dc:title>Society for Vascular Ultrasound</dc:title>
</cp:coreProperties>
</file>